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17965-8251-46D4-B3FA-AFAAE9F5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5D7C0-2BA1-45BA-916D-572AEDCB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587DE-92F3-4232-A3E3-D60CE431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D7995-62D5-4C98-8B19-0572627B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4E64-60FE-4D13-9429-5CDD8F37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43EF-1C1E-4038-B362-84E6CAE7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1F8E-6468-44C1-A810-6C354158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9B0D-32A1-4E94-A8DD-3DFE13EC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FF03-4F36-42A9-9A47-AF9BC7E0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8092-B8D3-4D30-8176-63772157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D3B6-159C-45EE-A9C1-84CCFE5B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B8D19-A3D9-4062-9285-D35AB9EB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2AB0-B20A-46EB-AB2B-5686FA45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85AF-1C9D-48A6-B919-86422C95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FBFE-22D9-4937-8FD0-4E156CB9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17AD-D840-48B6-B20A-D0BE289A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EEF2-921B-41FA-AB38-D7E8053F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56007-FE60-4063-8909-F30C0EDB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B3AAC-5251-4435-B95D-198D8488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2712F-8680-4CA0-9AFF-C11A2954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D5BB2-46D5-49B5-ADD0-689B9AC5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10876-DB3B-4056-890D-1368364B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41A3F-26FE-461D-A291-C88B0C1C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BEBD9-2C34-40D7-97B0-355CB225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A395-718F-44C3-B9EB-5D5CA49A551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5B59-5C84-4394-974C-BADD4996A69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ow Long, O Lord?”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13, Lesson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John 2:18 – 3: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00-10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Our Boldness Toward God</a:t>
            </a:r>
            <a:br>
              <a:rPr sz="3400"/>
            </a:b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1 John 3:19-24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let our hearts condemn us as unwort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6360" indent="-5763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is greater than our hearts and can see all things about our l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6360" indent="-5763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know we are of the truth and can persuade our hearts becaus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6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1. We keep His commandments and do those things that are pleasing to H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Our Boldness Toward God</a:t>
            </a:r>
            <a:br>
              <a:rPr sz="3400"/>
            </a:b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1 John 3:19-24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We obey His command to trust in the name of Jes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3.   We love one ano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The Antichrist Is Coming</a:t>
            </a:r>
            <a:br>
              <a:rPr sz="3400"/>
            </a:b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1 John 2:18-23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tion of Antichrist- Vines Diction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mean either against Christ, or instead of Christ, or perhaps combining the two, one who, assuming the guise of Christ, opposes Chris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ntichrist is one who denies the Father and the Son and is called a liar (1 John 2:2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The Antichrist Is Coming</a:t>
            </a:r>
            <a:br>
              <a:rPr sz="3400"/>
            </a:b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1 John 2:18-23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is the antichrist com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last hour which is the Christian dispen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antichrist have 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pirit of the antichrist is now already in the world (1 John 4: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nt out from us, but were not of 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Let Truth Abide In You</a:t>
            </a:r>
            <a:br>
              <a:rPr sz="3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1 John 2:24-28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wrote to Christians wh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-3808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ad been anointed from the Holy One (enlighten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-3808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new the truth which they heard from the begin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-3808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ere admonished to abide in the tru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-3808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ould also abide in the Son and the Fa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-3808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ad been promised eternal life by G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Children Of God</a:t>
            </a:r>
            <a:br>
              <a:rPr sz="3400"/>
            </a:b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1 John 2:29-3:3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is righteous and everyone who practices righteousness is born of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’s love enables us to become children of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do not yet see what we shall 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Jesus comes, we will be like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one who has this hope purifies himself even as Christ is p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Sin And The Child of God</a:t>
            </a:r>
            <a:br>
              <a:rPr sz="3800"/>
            </a:b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1 John 3:4-9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tion of sin: sin is lawlessness (going beyond the law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ever commits sin also commits lawless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died for our sins and in Him there is no s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Sin And The Child of God</a:t>
            </a:r>
            <a:br>
              <a:rPr sz="3800"/>
            </a:b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1 John 3:4-9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be deceived: righteous living requires righteous de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ne that sins shows that his father is the dev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cannot say, “God is my Father,” and continue sin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Amplified Bible Version</a:t>
            </a:r>
            <a:br>
              <a:rPr sz="2900"/>
            </a:b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1 John 3:6, 9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 No one who abides in Him [who lives and remains [</a:t>
            </a:r>
            <a:r>
              <a:rPr b="0" lang="en-US" sz="2400" spc="-1" strike="noStrike" u="sng">
                <a:solidFill>
                  <a:srgbClr val="ebf25a"/>
                </a:solidFill>
                <a:uFillTx/>
                <a:latin typeface="Tahoma"/>
                <a:hlinkClick r:id="rId1" action="ppaction://hlinksldjump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]in communion with and in obedience to Him--deliberately, knowingly, and [</a:t>
            </a:r>
            <a:r>
              <a:rPr b="0" lang="en-US" sz="2400" spc="-1" strike="noStrike" u="sng">
                <a:solidFill>
                  <a:srgbClr val="ebf25a"/>
                </a:solidFill>
                <a:uFillTx/>
                <a:latin typeface="Tahoma"/>
                <a:hlinkClick r:id="rId2" action="ppaction://hlinksldjump"/>
              </a:rPr>
              <a:t>f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]habitually]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mmits (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practic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 sin. No one who [habitually] sins has either seen or known Him [recognized, perceived, or understood Him, or has had an experiential acquaintance with Him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 No one born (begotten) of God [deliberately, knowingly, and [</a:t>
            </a:r>
            <a:r>
              <a:rPr b="0" lang="en-US" sz="2400" spc="-1" strike="noStrike" u="sng">
                <a:solidFill>
                  <a:srgbClr val="ebf25a"/>
                </a:solidFill>
                <a:uFillTx/>
                <a:latin typeface="Tahoma"/>
                <a:hlinkClick r:id="rId3" action="ppaction://hlinksldjump"/>
              </a:rPr>
              <a:t>h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]habitually] practices s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for God's nature abides in him [His principle of life, the divine sperm, remains permanently within him]; and he cannot practice sinning because he is born (begotten) of Go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2590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25909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47242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47242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Love One Another</a:t>
            </a:r>
            <a:br>
              <a:rPr sz="3400"/>
            </a:b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1 John 3:11-18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who hates his brother is a murderer like Cain (3:11-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showed us what love is by laying down His life for us (3:1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ust show our love – not just talk about it (3:16-1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21:16:58Z</dcterms:created>
  <dc:creator>robert marshall</dc:creator>
  <dc:description/>
  <dc:language>en-US</dc:language>
  <cp:lastModifiedBy>Frank D Vines</cp:lastModifiedBy>
  <dcterms:modified xsi:type="dcterms:W3CDTF">2007-06-03T21:21:01Z</dcterms:modified>
  <cp:revision>5</cp:revision>
  <dc:subject/>
  <dc:title>“How Long, O Lord?”</dc:title>
</cp:coreProperties>
</file>